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45FF-6063-4775-AE59-9194EBD00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BF5C-6F8E-4E89-96D2-AC720FBA8E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8D49D-C9CE-4E51-A9DE-CE704BC8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053A5-A8A9-402A-9DEC-3DADFDFD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212D8-32C3-46F0-B9A5-445A6EB9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5E1AD-3F9D-4F12-964F-66D0EE7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E9F59-F329-4642-95C6-119C29B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2711D-983B-4CBF-A34C-9A001F15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14E66-239C-4E3F-9A68-757BB4DF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88390-CC3B-4420-986A-0D050876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A8859-4D46-4EE8-88AA-7D19E408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53365-4868-408D-B5BD-4DA54232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CCE4-9CB0-42DD-8DC3-AB95921672A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FED61-B431-4D81-BCB5-1C1D08D4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4E8DB-EE6C-41A0-8B41-DAE03298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425C0-55F9-40A2-8692-299C0903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57EA5-E02D-401F-B361-AF1422C2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9C798-1C85-49A3-BBD3-99BAD10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AFE31-391D-4DA7-9CD2-0C99D9F3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921AD-C4C4-4E33-A21D-A9D976C8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22470-4F14-42D2-AFB2-2038A82C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BA8A4-5630-4927-A7CD-148D7DA3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B2E2B-D5A1-45C3-A989-3E9D0C1F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85DC-FFE9-4B5A-AFBD-041F45B75E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2653C-FCCE-4FFF-B107-A5712A7E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E49699-56B7-4516-A696-08E90259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69EAA9-9C9B-4673-A22C-610DC036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254C55-B0F2-4157-9D99-4730CBF7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F8129D-4582-4B3F-874A-D387BA64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80B980-507A-4DEB-9063-759D9186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975E34-CDD8-47F0-B534-C1966FBF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64C7E1-AE78-44E8-9B5E-F8E6429D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1A13ED-A746-43D3-8CF6-DFF9120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52B66E-8244-4181-8C77-9C4457DD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9B666-E1AC-421B-AAF9-8551A1DF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154976-5BC7-461E-9FDB-A7FEFA83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2DE0BD-4A74-49F0-93C8-1962BE4F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69526F-47EA-4F2D-9ACC-6FC6D99D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459BF-BDA1-4B72-A5A0-D7B31111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9B1A3-FDB1-4796-AE4B-C02EE4BE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FE4B9-7780-4056-9556-14B442DC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14D1F-D8DB-4D08-9B30-57067886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E55B3-6AE8-4ED7-83ED-5E2A7504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9A839-1442-4D85-80B7-310C34F7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CB854-6153-434A-A96B-CDF6C15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D94CD-FD36-4AB5-A83B-D7C8628F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BDB7F-9247-4705-AF49-A51ECC7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32805-4263-4AA5-9B57-CC1FDFA5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A56B5-ACB4-40CF-A62D-6356148F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29C0A-ECF6-47A0-9C9A-CF3A4DC9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7C6F3-2B49-4585-ABF9-2EAAA341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1F1FE9-2A9E-408D-8F5A-5348FFB0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9160B5-A661-4717-A5F2-257CFF2F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1CF845-183F-4FF9-83A7-3175E149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026756-A7F7-437B-A6AE-AB9DC7D7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A7E6B9-DCFC-4529-8687-667DACEA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6337C-FED2-4742-99A5-909E69A0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095926-084D-48EF-8EC8-2F78A323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9459FE-7262-42F6-8DD4-31A4D0E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E38B7D-BA0F-4B7C-B304-042045E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C69A2A-4311-46A5-90A8-CF075AB0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0977BD-56D3-4E32-85CE-CDFC5119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CE4565-B99E-40E2-A4B8-ED154EBF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23ACE0-27EB-488D-86BC-62411C4E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4404D-F148-4E24-9CEE-2DE85313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906E-BABF-4A80-9803-8B46D73E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CF106-0DE9-45FC-A82C-21CD1231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AF79E-4E80-4AD5-B6E2-492B6D5D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8AAD-C178-4A9D-A809-30A0E637E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50245-6076-4625-8F3F-9D450F5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DA170-919A-4FFE-BA92-85BD8A7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F38D7-751E-435A-A33A-16820747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027A6-25A4-4847-9EF9-7490FE2E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03000-B8A7-46EE-9854-E16F37E4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F3D494-7178-4CF8-ADC1-BFDA4700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52211-2632-498B-80D5-86CFC53B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858B49-38C7-4A33-9B03-6C6D03FD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793372-6A97-4FD6-8971-103F09D2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2F280-FD3B-488D-9732-E7D0BEB9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07CB-C895-4892-B7BC-16C0A9A627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6FD05-C9AA-456D-93C4-84689792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29460-AA56-4767-B14E-36FF6362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A4193-2279-42BC-AA4D-0D229E6F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57474-E82B-4E16-B5D4-6A92F77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FED36-10A0-4ED4-9C7B-D22C4B0B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7D72A-1F63-4942-8987-5BCEEEFB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C03B7-47F7-4105-9DAC-93920302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91D33-F811-449F-92FE-36F8FE7B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6D861-BBA3-4CAC-BC7A-B34ACA18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CF136-E021-4701-AA83-864CB589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1A5C-CFE7-45E9-9285-32667B57F1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682DC-8DBC-4BCA-826E-6A39D18B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52D6A-FF63-41A8-AAB9-6045F466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43BA0-78AB-438F-B681-C4D07117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FCCE1-CDF7-40BA-A17F-4D907C7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1B0D85-4F6D-475A-9C8F-2E009206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274BF-DE04-444D-9792-BF414ADB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4BA85-CED6-49E9-9EC0-9E17E3E0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D95E9-4FB5-4A41-9171-DEA849A7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E4F36-96D5-4761-B345-0042415D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8CBA8A-350F-41FB-919A-E421B0C6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60A5-8825-4F63-A0AC-2649CF52B5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CDA1DA-B970-414E-8CC1-290DFD48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91B0BE-CD27-4ECF-BDE6-1BF18F95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7EF485-F6E0-4A8B-97BD-5984D555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5F9909-AD65-4828-AA65-44DD633F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6680B0-C723-4859-9D0F-5E0E115E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C6E781-DD0E-4D3B-BB99-C0978710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7E83F8-9A29-4630-8278-B6E9033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5C13BE-87CC-41E9-9EDF-1AA5FA2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B9F9B9-B5E0-40FE-BA86-26D94BA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394F4-1743-44F2-91F1-F2D78E75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8F42-57CD-419A-B1AD-2A097E5349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86061C-62CF-4456-810F-3DD00C3B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F9E52A-60FB-434C-AE1E-F8C597FE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50B18-50CA-45DF-AE3E-6B644546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766DD7-E970-4299-BFAA-0F405B04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E41A14-1687-4C63-9481-2D410F9B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96F7B1-B1DC-4419-BEDD-4A7BFBC8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DDA8E-7A0D-4788-A17E-96D64024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D38CB4-3F85-44A8-8D24-174D07E3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60B49A-0D31-4851-9AD9-25991B2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C7E419-BD3F-4D67-A4A0-9B9C0D1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BA0B-7975-403C-A80B-A08D9EEA05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D1D20A-494B-4D14-8C19-2459B558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89975-DE4E-4BC8-B05E-95C0527F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2C5B97-BE3E-40A3-A737-0C72BF8D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429BBA-53F9-4392-ABE1-9DF9F45E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C972D8-7C5C-4D24-BCEC-8D4826AC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E2E0E7-382F-4326-A7ED-F84E931E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DAAB6-6119-466B-BFB3-DF860F09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28B9EF-BB7D-4418-8861-62026031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0D7546-5BE2-4BE2-AA04-A0090FE0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3A879B-6566-4BE5-8668-5E776D4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C14E-856C-41CD-9E04-36C75D2B2F7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F8CBEF-5D0E-4037-B8A0-40498FFF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DB2519-79BD-4E3B-A0F6-9A247880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A57E50-B93A-4281-B5DD-EF9D579C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B28CEB-9C28-41D5-8BB0-BB677D05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18643-514C-4023-8FC1-63D74F65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9AB15E-122B-4C83-9810-61C71324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13C9C7-3A21-437B-B194-6FB81C6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F3306F-295A-4F8D-BAEC-E3CDD567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A9C9BB-ADBF-4C92-8D11-07820DE4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BC18A8-C09E-4EED-90F6-082EBB1E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1449-D279-4B6D-844C-B407F49A57E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83856F-4760-4BB4-900B-27BE2A1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13294E-56EA-418B-9E48-7F9E2E3E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B44B0-150E-4BFB-8C08-547AC82D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36F750-DE80-4C3C-92AE-B2F8909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6F5A6B-EE81-4E06-8CD1-D1E5C33B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017952-6A9D-486A-BAD7-48C0529D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E56DA2-C063-4FE6-9484-721790CC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51686-E0F6-4828-9F46-211DCEE1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A732B-EC5D-47DD-9D3A-5CF9C56B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A6606-30F4-434F-A01E-A430C5AA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9F3314-E2A1-492C-AF1B-08006B1428B3}" type="slidenum">
              <a: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8F198B-849A-4CDC-B407-867F91BFD46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AAC7A5-D907-420F-B0EF-1D077BB0657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3D0DDC-C094-4D4D-B776-4197683A75C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6CF0F0-569D-426E-A577-B7191D9C223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EF4C-278A-45E0-8A91-9151CA9EB1F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5C8DD7-34BA-45AD-B544-B18E5F7AD4A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2E68A1-7970-4168-9200-77CF27AF8E3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256F11-6178-49F1-A5DA-6454189A1B3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61C232-148E-4D14-A057-C354334FB42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8ED1C3-2520-42C9-A022-CAAB8E68D87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E4AA65-158F-407A-9C5E-06A3B01D4C8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A4E47B-B32D-47D2-A9D7-1F166DBF436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ечт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4" name="Picture 5" descr="000803_1063_3051_vuvv"/>
          <p:cNvPicPr/>
          <p:nvPr/>
        </p:nvPicPr>
        <p:blipFill>
          <a:blip r:embed="rId1"/>
          <a:stretch/>
        </p:blipFill>
        <p:spPr>
          <a:xfrm>
            <a:off x="3124080" y="1905120"/>
            <a:ext cx="2914920" cy="4422600"/>
          </a:xfrm>
          <a:prstGeom prst="rect">
            <a:avLst/>
          </a:prstGeom>
          <a:ln w="0">
            <a:noFill/>
          </a:ln>
        </p:spPr>
      </p:pic>
      <p:pic>
        <p:nvPicPr>
          <p:cNvPr id="565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18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Секретнич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7" name="Picture 5" descr="000803_1063_3048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328920" cy="4907160"/>
          </a:xfrm>
          <a:prstGeom prst="rect">
            <a:avLst/>
          </a:prstGeom>
          <a:ln w="0">
            <a:noFill/>
          </a:ln>
        </p:spPr>
      </p:pic>
      <p:pic>
        <p:nvPicPr>
          <p:cNvPr id="568" name="Запи2457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0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амышля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0" name="Picture 5" descr="000803_1063_3049_vuvv"/>
          <p:cNvPicPr/>
          <p:nvPr/>
        </p:nvPicPr>
        <p:blipFill>
          <a:blip r:embed="rId1"/>
          <a:stretch/>
        </p:blipFill>
        <p:spPr>
          <a:xfrm>
            <a:off x="3048120" y="1600200"/>
            <a:ext cx="3146400" cy="4708440"/>
          </a:xfrm>
          <a:prstGeom prst="rect">
            <a:avLst/>
          </a:prstGeom>
          <a:ln w="0">
            <a:noFill/>
          </a:ln>
        </p:spPr>
      </p:pic>
      <p:pic>
        <p:nvPicPr>
          <p:cNvPr id="571" name="Запи2457.WAV" descr=""/>
          <p:cNvPicPr/>
          <p:nvPr/>
        </p:nvPicPr>
        <p:blipFill>
          <a:blip r:embed="rId2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822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адостный, возбужден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3" name="Picture 5" descr="000803_1063_3047_vuvv"/>
          <p:cNvPicPr/>
          <p:nvPr/>
        </p:nvPicPr>
        <p:blipFill>
          <a:blip r:embed="rId1"/>
          <a:stretch/>
        </p:blipFill>
        <p:spPr>
          <a:xfrm>
            <a:off x="3124080" y="1523880"/>
            <a:ext cx="3019680" cy="5015160"/>
          </a:xfrm>
          <a:prstGeom prst="rect">
            <a:avLst/>
          </a:prstGeom>
          <a:ln w="0">
            <a:noFill/>
          </a:ln>
        </p:spPr>
      </p:pic>
      <p:pic>
        <p:nvPicPr>
          <p:cNvPr id="574" name="Запи2457.WAV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439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Озадачен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6" name="Picture 5" descr="000803_1063_3050_vuvv"/>
          <p:cNvPicPr/>
          <p:nvPr/>
        </p:nvPicPr>
        <p:blipFill>
          <a:blip r:embed="rId1"/>
          <a:stretch/>
        </p:blipFill>
        <p:spPr>
          <a:xfrm>
            <a:off x="3048120" y="1676520"/>
            <a:ext cx="2925720" cy="4722840"/>
          </a:xfrm>
          <a:prstGeom prst="rect">
            <a:avLst/>
          </a:prstGeom>
          <a:ln w="0">
            <a:noFill/>
          </a:ln>
        </p:spPr>
      </p:pic>
      <p:pic>
        <p:nvPicPr>
          <p:cNvPr id="577" name="Запи2473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96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ривляется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9" name="Picture 5" descr="000803_1063_3052_vuvv"/>
          <p:cNvPicPr/>
          <p:nvPr/>
        </p:nvPicPr>
        <p:blipFill>
          <a:blip r:embed="rId1"/>
          <a:stretch/>
        </p:blipFill>
        <p:spPr>
          <a:xfrm>
            <a:off x="2743200" y="1676520"/>
            <a:ext cx="3787920" cy="4566960"/>
          </a:xfrm>
          <a:prstGeom prst="rect">
            <a:avLst/>
          </a:prstGeom>
          <a:ln w="0">
            <a:noFill/>
          </a:ln>
        </p:spPr>
      </p:pic>
      <p:pic>
        <p:nvPicPr>
          <p:cNvPr id="580" name="Запи2473.WAV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54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" descr=""/>
          <p:cNvPicPr/>
          <p:nvPr/>
        </p:nvPicPr>
        <p:blipFill>
          <a:blip r:embed="rId1"/>
          <a:stretch/>
        </p:blipFill>
        <p:spPr>
          <a:xfrm>
            <a:off x="155520" y="136440"/>
            <a:ext cx="88455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79280" y="544320"/>
            <a:ext cx="8229600" cy="6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Что такое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Какие бывают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Как можно выразить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Перечисли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Перечисли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Почему важно научиться управлять своими эмоциям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В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ный тес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С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Определи, какие чувства испытывают ребята на рисунк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Закончи предложение(начало см. на доске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Напиши 2-3 совета, которые помогут твоему другу избавиться от плохого настроен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Эмоции человек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4" descr="000803_1065_1904_vnvv"/>
          <p:cNvPicPr/>
          <p:nvPr/>
        </p:nvPicPr>
        <p:blipFill>
          <a:blip r:embed="rId1"/>
          <a:stretch/>
        </p:blipFill>
        <p:spPr>
          <a:xfrm>
            <a:off x="304920" y="3962520"/>
            <a:ext cx="1633320" cy="2573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000803_1065_0322_vuvv"/>
          <p:cNvPicPr/>
          <p:nvPr/>
        </p:nvPicPr>
        <p:blipFill>
          <a:blip r:embed="rId2"/>
          <a:stretch/>
        </p:blipFill>
        <p:spPr>
          <a:xfrm>
            <a:off x="7010280" y="228600"/>
            <a:ext cx="2133720" cy="2365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0803_1065_1829_vnvv"/>
          <p:cNvPicPr/>
          <p:nvPr/>
        </p:nvPicPr>
        <p:blipFill>
          <a:blip r:embed="rId3"/>
          <a:stretch/>
        </p:blipFill>
        <p:spPr>
          <a:xfrm>
            <a:off x="6629400" y="3886200"/>
            <a:ext cx="2044800" cy="2752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0803_1065_4090_vnvv"/>
          <p:cNvPicPr/>
          <p:nvPr/>
        </p:nvPicPr>
        <p:blipFill>
          <a:blip r:embed="rId4"/>
          <a:stretch/>
        </p:blipFill>
        <p:spPr>
          <a:xfrm>
            <a:off x="152280" y="0"/>
            <a:ext cx="1662120" cy="2705040"/>
          </a:xfrm>
          <a:prstGeom prst="rect">
            <a:avLst/>
          </a:prstGeom>
          <a:ln w="0">
            <a:noFill/>
          </a:ln>
        </p:spPr>
      </p:pic>
      <p:pic>
        <p:nvPicPr>
          <p:cNvPr id="542" name="Запи2442.WAV" descr=""/>
          <p:cNvPicPr/>
          <p:nvPr/>
        </p:nvPicPr>
        <p:blipFill>
          <a:blip r:embed="rId5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4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У людей бывает разное настроение, от которого зависит выражение лица. Глядя на лицо, можно сказать, что чувствует человек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4" name="Запи2442.WAV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000803_1064_4238_vuvv"/>
          <p:cNvPicPr/>
          <p:nvPr/>
        </p:nvPicPr>
        <p:blipFill>
          <a:blip r:embed="rId2"/>
          <a:stretch/>
        </p:blipFill>
        <p:spPr>
          <a:xfrm>
            <a:off x="4495680" y="37339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000803_1064_6011_vnvv"/>
          <p:cNvPicPr/>
          <p:nvPr/>
        </p:nvPicPr>
        <p:blipFill>
          <a:blip r:embed="rId3"/>
          <a:stretch/>
        </p:blipFill>
        <p:spPr>
          <a:xfrm>
            <a:off x="228600" y="1447920"/>
            <a:ext cx="3921120" cy="413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000803_1054_6855_vuvv"/>
          <p:cNvPicPr/>
          <p:nvPr/>
        </p:nvPicPr>
        <p:blipFill>
          <a:blip r:embed="rId4"/>
          <a:stretch/>
        </p:blipFill>
        <p:spPr>
          <a:xfrm>
            <a:off x="4572000" y="1600200"/>
            <a:ext cx="22176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0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Добрый</a:t>
            </a: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9" name="Picture 5" descr="000803_1063_3043_vuvv"/>
          <p:cNvPicPr/>
          <p:nvPr/>
        </p:nvPicPr>
        <p:blipFill>
          <a:blip r:embed="rId1"/>
          <a:stretch/>
        </p:blipFill>
        <p:spPr>
          <a:xfrm>
            <a:off x="3048120" y="1828800"/>
            <a:ext cx="3287520" cy="4524480"/>
          </a:xfrm>
          <a:prstGeom prst="rect">
            <a:avLst/>
          </a:prstGeom>
          <a:ln w="0">
            <a:noFill/>
          </a:ln>
        </p:spPr>
      </p:pic>
      <p:pic>
        <p:nvPicPr>
          <p:cNvPr id="550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26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Недоволь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2" name="Picture 5" descr="000803_1063_3042_vuvv"/>
          <p:cNvPicPr/>
          <p:nvPr/>
        </p:nvPicPr>
        <p:blipFill>
          <a:blip r:embed="rId1"/>
          <a:stretch/>
        </p:blipFill>
        <p:spPr>
          <a:xfrm>
            <a:off x="2895480" y="1295280"/>
            <a:ext cx="3409920" cy="5149800"/>
          </a:xfrm>
          <a:prstGeom prst="rect">
            <a:avLst/>
          </a:prstGeom>
          <a:ln w="0">
            <a:noFill/>
          </a:ln>
        </p:spPr>
      </p:pic>
      <p:pic>
        <p:nvPicPr>
          <p:cNvPr id="553" name="Запи2457.WAV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9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Испуган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000803_1063_3045_vuvv"/>
          <p:cNvPicPr/>
          <p:nvPr/>
        </p:nvPicPr>
        <p:blipFill>
          <a:blip r:embed="rId1"/>
          <a:stretch/>
        </p:blipFill>
        <p:spPr>
          <a:xfrm>
            <a:off x="2819520" y="1676520"/>
            <a:ext cx="379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6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742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еселый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5" descr="000803_1063_3044_vuvv"/>
          <p:cNvPicPr/>
          <p:nvPr/>
        </p:nvPicPr>
        <p:blipFill>
          <a:blip r:embed="rId1"/>
          <a:stretch/>
        </p:blipFill>
        <p:spPr>
          <a:xfrm>
            <a:off x="2895480" y="1752480"/>
            <a:ext cx="3459240" cy="4560840"/>
          </a:xfrm>
          <a:prstGeom prst="rect">
            <a:avLst/>
          </a:prstGeom>
          <a:ln w="0">
            <a:noFill/>
          </a:ln>
        </p:spPr>
      </p:pic>
      <p:pic>
        <p:nvPicPr>
          <p:cNvPr id="559" name="Запи2457.WAV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6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лой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1" name="Picture 5" descr="000803_1063_3046_vuvv"/>
          <p:cNvPicPr/>
          <p:nvPr/>
        </p:nvPicPr>
        <p:blipFill>
          <a:blip r:embed="rId1"/>
          <a:stretch/>
        </p:blipFill>
        <p:spPr>
          <a:xfrm>
            <a:off x="3048120" y="1600200"/>
            <a:ext cx="2962080" cy="5014800"/>
          </a:xfrm>
          <a:prstGeom prst="rect">
            <a:avLst/>
          </a:prstGeom>
          <a:ln w="0">
            <a:noFill/>
          </a:ln>
        </p:spPr>
      </p:pic>
      <p:pic>
        <p:nvPicPr>
          <p:cNvPr id="562" name="Запи2457.WAV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5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2-03-17T03:24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